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681-2E0B-47A7-880C-6F1E2054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34F-BAC7-4A7A-9A4C-48535855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EE5-4E4A-4D87-AA5C-809B5E8E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457-9187-4FDA-BF7F-BC9F5DC0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470-4EC3-4902-B66B-DD2338DA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73E-6ACB-437F-A970-9CD35B9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99E-F463-4736-B747-54D500A1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955-D268-4B48-A69C-E3394735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88B-2771-4187-8C60-4CFA368C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748-AFD5-487D-81CF-C426200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CF0-B1B0-4DDA-89D1-A436EFC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85A-FC1E-4D02-85BA-0348E4C9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1998-2C85-44BD-BB5E-738BEF0D0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82200" y="2268000"/>
            <a:ext cx="6651720" cy="46047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cc99ff"/>
                </a:solidFill>
                <a:latin typeface="comic"/>
              </a:rPr>
              <a:t>78 </a:t>
            </a:r>
            <a:r>
              <a:rPr b="1" lang="en-US" sz="4400" spc="-1" strike="noStrike">
                <a:solidFill>
                  <a:srgbClr val="cc99ff"/>
                </a:solidFill>
                <a:latin typeface="comic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Часът се не зна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който Бог наш ще дойд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близък е край - 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ой приготвил е Свойте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дойде Той пак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лава и власт голяма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76920" y="45720"/>
            <a:ext cx="793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нека бдим и се мол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! Алилуя, алилу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в облац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илата на Отца Сво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8440" y="429840"/>
            <a:ext cx="63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бдим всеки ч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в молитва усърдна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ек всеки от н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секи час да пребъдва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А щом дойде пак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с Свойта праведна съдба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ни вземе в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76920" y="45720"/>
            <a:ext cx="793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нека бдим и се мол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! Алилуя, алилу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в облац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илата на Отца Сво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04360" y="-25920"/>
            <a:ext cx="5766120" cy="39344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вземе нас Той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т тоз свят на тревога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в вечен покой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ни води при Бога.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небесний дом та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 Исуса в чертога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век ще бъдем с От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76920" y="45720"/>
            <a:ext cx="793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нека бдим и се мол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! Алилуя, алилу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в облац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илата на Отца Сво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0:41:46Z</dcterms:created>
  <dc:creator>TrifonTrifonow</dc:creator>
  <dc:description/>
  <dc:language>en-US</dc:language>
  <cp:lastModifiedBy>TrifonTrifonow</cp:lastModifiedBy>
  <dcterms:modified xsi:type="dcterms:W3CDTF">2005-11-23T20:59:30Z</dcterms:modified>
  <cp:revision>8</cp:revision>
  <dc:subject/>
  <dc:title>Slide 1</dc:title>
</cp:coreProperties>
</file>